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PH"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C4D73-58D3-4A28-BEF6-8154D471A6D8}" type="slidenum">
              <a:rPr b="0" lang="en-PH"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638FE-68CE-41DF-8782-B6B474FB5C8C}" type="slidenum">
              <a:rPr b="0" lang="en-P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4F9F5-F99D-4124-813C-68E2F6407BB9}" type="slidenum">
              <a:rPr b="0" lang="en-P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EDE28-4B2A-4D1B-A3AA-9FE004AEBFC5}" type="slidenum">
              <a:rPr b="0" lang="en-P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44262-114D-4F45-A77D-F16CCEDA0252}" type="slidenum">
              <a:rPr b="0" lang="en-P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17949-1BAF-4C22-BD55-8ED6DCB62613}" type="slidenum">
              <a:rPr b="0" lang="en-P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6C2A4-402C-4998-8A11-6BD24A61FDAC}" type="slidenum">
              <a:rPr b="0" lang="en-P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9E5A5-6613-4E11-8CD3-3C2DDC8E6D1A}" type="slidenum">
              <a:rPr b="0" lang="en-P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62B69-0731-4A2D-A2F6-841F087F8A8B}" type="slidenum">
              <a:rPr b="0" lang="en-P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48EB9-4FB2-4879-B2D7-115982C4BEE6}" type="slidenum">
              <a:rPr b="0" lang="en-P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0ADBC-28F4-4B6F-9705-E52F8CE628E7}" type="slidenum">
              <a:rPr b="0" lang="en-P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04930-1F0E-4DBC-B9B0-38523D681F30}" type="slidenum">
              <a:rPr b="0" lang="en-P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D4B17-B5A3-4AE7-8231-08C65E10E2FC}" type="slidenum">
              <a:rPr b="0" lang="en-PH"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B4FCB-D276-4B74-8ACB-AE3DD53D0D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08FA5-F58B-4023-AA41-E8865FC98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B5220-3048-4C78-86CA-92BF3E5B6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3EADC-0098-4D15-BEC8-8E97E4D2D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FDBD6-698C-4436-9822-E6F024040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85E7D-C1EF-4681-AF69-290D530EB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64D50-7389-4EBE-BF38-F7D2834FE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B916D-000F-4C23-9FDB-D4B7FCB3B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01468-CB30-4808-B1B5-0C55F0917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43EF6-A3A9-47C0-A427-AFAE6E068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F8A80-2EBD-441E-A667-940F4289B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A267E-3335-4C3B-BB36-E35EEFBA02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0A368-714F-4755-BEAE-AF29FEA3A1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Start community Awareness Now!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PH"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How will these skills be developed?</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ritical thinking skills – The children would develop critical thinking skills through an activity where in children would identify where the community helper work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llaboration – The children would be grouped together and are asked to share about what their parents do for a living.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mmunication skills – The children would be given time to talk about with their classmates on what their parents do for a living.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operation skills – The children would be asked to do a role play about what the specific community helper do for a living.</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Goals: as a teacher</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Children would be able to apply what they learned in real lif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Children would understand on why community helpers are importa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Goals: as a student</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To be able to understand the importance of each lesson being discussed in cla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To be able to match to which places of the community do each of the community helper belo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7" descr="http://www.dreamstime.com/preschool-age-boy-in-fireman-costume-thumb16722855.jpg"/>
          <p:cNvPicPr/>
          <p:nvPr/>
        </p:nvPicPr>
        <p:blipFill>
          <a:blip r:embed="rId1"/>
          <a:stretch/>
        </p:blipFill>
        <p:spPr>
          <a:xfrm>
            <a:off x="228600" y="2057400"/>
            <a:ext cx="2743200" cy="4114800"/>
          </a:xfrm>
          <a:prstGeom prst="rect">
            <a:avLst/>
          </a:prstGeom>
          <a:ln w="0">
            <a:noFill/>
          </a:ln>
        </p:spPr>
      </p:pic>
      <p:pic>
        <p:nvPicPr>
          <p:cNvPr id="51" name="Picture 9" descr="http://images.halloweencostumes.com/child-nurse-costume.jpg"/>
          <p:cNvPicPr/>
          <p:nvPr/>
        </p:nvPicPr>
        <p:blipFill>
          <a:blip r:embed="rId2"/>
          <a:stretch/>
        </p:blipFill>
        <p:spPr>
          <a:xfrm>
            <a:off x="3505320" y="1905120"/>
            <a:ext cx="1600200" cy="4762440"/>
          </a:xfrm>
          <a:prstGeom prst="rect">
            <a:avLst/>
          </a:prstGeom>
          <a:ln w="0">
            <a:noFill/>
          </a:ln>
        </p:spPr>
      </p:pic>
      <p:pic>
        <p:nvPicPr>
          <p:cNvPr id="52" name="Picture 11" descr="http://www.costumenurse.com/wp-content/uploads/2010/08/Veterinarian-Child-Doctor-Costume1-300x300.jpg"/>
          <p:cNvPicPr/>
          <p:nvPr/>
        </p:nvPicPr>
        <p:blipFill>
          <a:blip r:embed="rId3"/>
          <a:stretch/>
        </p:blipFill>
        <p:spPr>
          <a:xfrm>
            <a:off x="5715000" y="2133720"/>
            <a:ext cx="2517840" cy="396216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Community Help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Places in the Community</a:t>
            </a:r>
            <a:endParaRPr b="0" lang="en-US" sz="4400" spc="-1" strike="noStrike">
              <a:solidFill>
                <a:srgbClr val="000000"/>
              </a:solidFill>
              <a:latin typeface="Calibri"/>
            </a:endParaRPr>
          </a:p>
        </p:txBody>
      </p:sp>
      <p:pic>
        <p:nvPicPr>
          <p:cNvPr id="55" name="Picture 2" descr="http://www.coloring-crafts.com/coloring-pages/bible/images/large/printable-church-page.gif"/>
          <p:cNvPicPr/>
          <p:nvPr/>
        </p:nvPicPr>
        <p:blipFill>
          <a:blip r:embed="rId1"/>
          <a:stretch/>
        </p:blipFill>
        <p:spPr>
          <a:xfrm>
            <a:off x="380880" y="1447920"/>
            <a:ext cx="3071880" cy="4343400"/>
          </a:xfrm>
          <a:prstGeom prst="rect">
            <a:avLst/>
          </a:prstGeom>
          <a:ln w="0">
            <a:noFill/>
          </a:ln>
        </p:spPr>
      </p:pic>
      <p:pic>
        <p:nvPicPr>
          <p:cNvPr id="56" name="Picture 4" descr="http://t3.gstatic.com/images?q=tbn:ANd9GcSuZJB_TsSrGufBQU4SHmgBhRvJQivWomtpdd0MFML6qLpqYJ3o"/>
          <p:cNvPicPr/>
          <p:nvPr/>
        </p:nvPicPr>
        <p:blipFill>
          <a:blip r:embed="rId2"/>
          <a:stretch/>
        </p:blipFill>
        <p:spPr>
          <a:xfrm>
            <a:off x="4572000" y="1295280"/>
            <a:ext cx="2943360" cy="1552680"/>
          </a:xfrm>
          <a:prstGeom prst="rect">
            <a:avLst/>
          </a:prstGeom>
          <a:ln w="0">
            <a:noFill/>
          </a:ln>
        </p:spPr>
      </p:pic>
      <p:pic>
        <p:nvPicPr>
          <p:cNvPr id="57" name="Picture 6" descr="http://sasd.k12.pa.us/uploadedImages/MarzolfES/SchoolHouse.jpg"/>
          <p:cNvPicPr/>
          <p:nvPr/>
        </p:nvPicPr>
        <p:blipFill>
          <a:blip r:embed="rId3"/>
          <a:stretch/>
        </p:blipFill>
        <p:spPr>
          <a:xfrm>
            <a:off x="4419720" y="3048120"/>
            <a:ext cx="3687480" cy="320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Unit summary</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 this unit, the teacher would group the class and let them share what their parents do for a living and then the teacher would make a power point presentation to be able to conduct a story about the community helpers. They would also be able to dramatize different community helpers that are covering about what each community helper do to help our community. The teacher would make use of pictures of different places in the community to help the children identify different places of the community and also the teacher would conduct a field trip and be able to take pictures to be placed in a blog site for the parents to see and comment.</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Output</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would answer in a power point presentation where in they would click the correct answer and if they click the wrong answer it won’t move to another slide. This would serve as their proje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amatization or role play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Assessment </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63" name=""/>
          <p:cNvSpPr txBox="1"/>
          <p:nvPr/>
        </p:nvSpPr>
        <p:spPr>
          <a:xfrm>
            <a:off x="457200" y="1143000"/>
            <a:ext cx="9144000" cy="5943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aphic organiz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K-W-L cha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estioning for Prior Knowled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bservation checklis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ickwrite journal checklis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feren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elf-assessmen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Curriculum-Framing question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ssential Question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Who helps our commun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nit Questi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0" lang="en-US" sz="3200" spc="-1" strike="noStrike">
                <a:solidFill>
                  <a:srgbClr val="000000"/>
                </a:solidFill>
                <a:latin typeface="Calibri"/>
              </a:rPr>
              <a:t>What do you want to be when you grow 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tent Questions</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Where does a ________ work?</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What does a ______ do?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Objective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e able to familiarize different places in the community. (Church, school, malls, hospita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e able to familiarize the community helpers. (Doctor, dentist, nurse, firema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e able to develop critical thinking skills – identifying where the different community helpers work.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e able to develop collaboration with their classmates and teacher. – talk about the work of their paren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e able to develop communication skills. - sharing with the class on what their parents do for a living.</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e able to develop cooperation. – do a role play about the community helper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PH" sz="4400" spc="-1" strike="noStrike">
                <a:solidFill>
                  <a:srgbClr val="000000"/>
                </a:solidFill>
                <a:latin typeface="Calibri"/>
              </a:rPr>
              <a:t>21</a:t>
            </a:r>
            <a:r>
              <a:rPr b="0" lang="en-PH" sz="4400" spc="-1" strike="noStrike" baseline="30000">
                <a:solidFill>
                  <a:srgbClr val="000000"/>
                </a:solidFill>
                <a:latin typeface="Calibri"/>
              </a:rPr>
              <a:t>st</a:t>
            </a:r>
            <a:r>
              <a:rPr b="0" lang="en-PH" sz="4400" spc="-1" strike="noStrike">
                <a:solidFill>
                  <a:srgbClr val="000000"/>
                </a:solidFill>
                <a:latin typeface="Calibri"/>
              </a:rPr>
              <a:t> century skills</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Critical thinking sk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Collaboration sk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Communication sk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PH" sz="3200" spc="-1" strike="noStrike">
                <a:solidFill>
                  <a:srgbClr val="000000"/>
                </a:solidFill>
                <a:latin typeface="Calibri"/>
              </a:rPr>
              <a:t>Cooperation skil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kimmyswirls88</dc:creator>
  <dc:description/>
  <dc:language>en-US</dc:language>
  <cp:lastModifiedBy>Jalyzza Kim B. Veloso</cp:lastModifiedBy>
  <dcterms:modified xsi:type="dcterms:W3CDTF">2011-02-08T01:57:44Z</dcterms:modified>
  <cp:revision>7</cp:revision>
  <dc:subject/>
  <dc:title>Language is all of these</dc:title>
</cp:coreProperties>
</file>